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E8D8-4BC6-4CDC-A1EA-BA8ECDBA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E134-2216-4F05-A4EE-6E3FCB8C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CDE6-0E9E-4D14-81BA-971CE0BF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832-F7C1-46B6-9598-C2898CBA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EACD-E250-4D9C-81F9-88A331E8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21A-D294-4D9F-B3EF-86BBBF87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DCD-E3F3-4B34-A0AA-35E99CA5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52E-71B3-4266-B527-7A3634F0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A3C2-4973-4E12-AD3C-6A8DDAD8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7F8-4FFD-4CC6-BD93-E37AD1E2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09F3-448F-4FA2-A851-67CF9ECE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1FC4-A708-4869-9EA9-6181C44F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4BC2-DF6C-47A5-BBE4-FBB4A11696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06520" y="4513320"/>
            <a:ext cx="8704080" cy="193356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1785960" y="600084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Гагарин и С.П. Короле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642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5508720" y="1916280"/>
            <a:ext cx="309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женщина-космонавт  Валентина Тере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426000" cy="4280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428840" y="550080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Ю.Гагарин и В. Терешк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323640" y="428760"/>
            <a:ext cx="835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ая женщина, вышедшая в открытый  косм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ветлана Савиц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0614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43400" cy="5359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4857840" y="642960"/>
            <a:ext cx="3857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ГАРИН, ЮРИЙ АЛЕКСЕЕВИЧ (1934–1968), советский летчик-космонавт, первый человек, совершивший орбитальный космический по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72000" cy="464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73440" cy="2933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216400" y="5229360"/>
            <a:ext cx="36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. Гагарин и его 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95280" y="2858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марта 1934 г. в селе Клушино ( Смоленская область) родился Ю.А. Гага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076640" cy="344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429000" cy="3784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85840" y="457200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ратовский индустриальный техн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219640" y="9079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гарин - курсант  Саратовского аэрокл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684360" y="1557360"/>
            <a:ext cx="785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апреля 1961 Ю.А.Гагарин на космическом корабле «Восток», созданном в опытно-конструкторском бюро С.П.Королева, стартовал с космодрома Байконур и совершил первый космический полет, облетев земной шар за 108 минут и благополучно вернувшись на Зем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72320" cy="5791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 приземления  Ю.А. Гаг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4:40:37Z</dcterms:created>
  <dc:creator>HardyWf</dc:creator>
  <dc:description/>
  <dc:language>en-US</dc:language>
  <cp:lastModifiedBy>Name</cp:lastModifiedBy>
  <dcterms:modified xsi:type="dcterms:W3CDTF">2010-09-23T12:06:21Z</dcterms:modified>
  <cp:revision>3</cp:revision>
  <dc:subject/>
  <dc:title>Первые космонав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6000000000001024140</vt:lpwstr>
  </property>
</Properties>
</file>